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4188-5977-4E3F-9CE3-3F099BE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25A5A-52B3-4713-9FCE-1A3010E9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8EA5-BD37-4325-948A-BA2B693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8D37E-3566-41C1-96D9-A099E32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43E3-9F6F-4849-8245-796DA0CC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1102F-C2D3-41C6-9B7B-BC99A220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5CDF-5F09-4FE9-88D0-AF222A28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4759D-0FD6-45D5-8392-6E2BC875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B6E59-4A8E-498C-940D-79A05A3D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BDF48-B637-4D0D-9579-D9B57BD4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3AD83-BDB0-46AC-8931-E1E11312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9FE76-7CF7-4436-B5C7-853B3E50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B0998-5004-4B5C-A066-A16BD14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B70A5-8AD3-428B-BCB7-7F57A138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C4BC-59D2-4450-8F22-AB071C6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9383-E28D-4E4F-9366-BDBE641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58E12-1BC5-4113-B192-7F4F661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CE2D1-C92D-4A0F-BFA2-17369F2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CDB30-205D-4588-8EF5-2F1D0E28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4D720-5F5D-4A68-B9A3-C99A5B56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BFE77-C3FA-497E-841B-CB45BEFB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E973A-ED47-4F20-9146-59CF3948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8A1A4-0BE3-42B1-B3AE-4BF2E3A9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E69CB-2495-4740-8DD5-AB57187C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F057E-1AFB-400A-9FC0-6891EE82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78FE8-0C0D-4211-A84B-F5690E65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1828-265E-40CA-BB40-19BFF07C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CEA32-5F87-4148-94DD-A6FF00F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A772B-68F8-4A2E-931C-1DAC2A3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15993-2834-4F8D-B0E3-6D7004A3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683-0CEC-4886-8297-3B6AD0EC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C96D3-7CF5-4DB6-8E96-887DCDB1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8EBFC-A852-4C62-9F6C-497AA961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4766A-FBE7-44C9-963A-8BB94F17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1ABB0-147F-4DC0-BA72-03158537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48466-C1BF-4F1D-BB95-C591B3A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D1A3-60B1-496E-8DFA-24FB92A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6C5E9-3B5B-43E2-8866-CB4B7B9B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D1C67-26F0-4069-A769-7F575397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11F4B-557B-47C3-A1FB-EB6FE42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B82E5-0190-49DE-91DD-FD68243C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183-8A53-4B58-9335-ACEBE7C9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2D881-596E-46B1-BCB9-63971204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5CAA2-8450-4FDD-9F4F-E1D7291F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438CC-C6A2-4A28-92BB-31FE8D6E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C4454-3438-46A8-9D7E-C4175DAF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D5C47-00E4-4847-B8DA-D3AE8D3C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7ACFA-7F93-4FE1-BE36-4E09AA73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2E047-06E1-45B4-9D09-7D5A2D28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BDBDA-CFD4-470D-A19E-4EB7F533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4964-5FB3-4B2C-AC30-AAF75E4A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15269-AC55-42A1-B810-2321DDF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A02-4669-4044-993E-70D4D3EB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5A892-07CA-465F-B9EB-8B1D0582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231BF-83A4-4884-BB59-75ADB15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6DD80-9AB3-4781-BDE2-984EC37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9249F-2784-45A7-B2A5-FB7512E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292B6-1F75-40EA-8983-D290DCB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99556-DC64-488E-B65B-23CA29D3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0246-91E9-4759-9732-2B10A80C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3EC0E-7A57-4617-A283-C8558862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DD6AD-BA49-4140-809B-E076CFD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11E5C-2F17-4F12-97E6-3B7804E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936-765E-463C-B73C-BC6E3F19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1F549-837F-4E96-B02C-1ECD5B25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E297D-8516-4350-9125-CE6A3427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2FFEB-4811-4DE1-A9EE-34E81A4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CD6C5-EFF6-4E06-B927-FF00E70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56A42-9C54-45F8-8B70-50A7CE5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12DBC-301B-45C6-BFCA-E4119F94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278F4-3C66-4763-8646-BBC8C4B1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5BB1A-3C78-4832-AA4D-C9C78D3E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386B1-4AB5-43BF-BA74-7CF684B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1A2-3BE1-435B-9A8E-5D8F1F68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8E9-E495-40F6-91BB-2218526C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815-0398-4237-AF0F-989EBB69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79C-AE62-487F-B87D-55F2FF5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CA8-F2F5-449B-A862-34D7E58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A8D-3897-4323-9FA1-87CE1C48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166-05B5-454E-B85F-8D44A62B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A14-F649-4114-9993-00FB4756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2E1C-F77C-49BC-A62C-FE90298F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51B-7F79-4351-858A-A669EE0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BAE1-CDD8-4D4B-B0A7-BF3BD29A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7480-BB00-4F6B-9DC9-5172D29C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997F-F5AF-4FC5-B003-90229B01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034C-898A-4D26-A7F0-D0AA9DA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0B44-E15F-44B4-A413-4727ABF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5FA9-B2E9-4A00-9BF0-582841A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D119-8FCA-467C-9A89-0E2347E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4A7A-0B01-40BB-8DA5-2F7A884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1DD2-CEA4-4F0F-925D-C8B48B57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0239-37C8-419D-97C2-B845A746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A6BE-71AB-496B-A922-E5DC45B1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4221-28F2-4F72-A7C9-9CA4C31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8EAE-8529-4BE8-812E-90936BA7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DF2A-E61B-4DA2-A1BB-83103749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84EF-678F-4018-8BF0-5E8C430C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8E28-8735-4FA6-A596-6ABCEBE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8A4D-D063-4C53-BB2E-42403852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9979-4860-47C2-A21D-E9A91AC3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5DAD-B65C-408E-828D-2C481EA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A3BA-DFA1-4069-A09B-D2C77A76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46FB-995E-43A3-8B5E-0DC8EEDC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1D54-75BE-4A5E-8802-144DFA8A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3C51-081E-40F8-8817-FC98C1FE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205E-3448-4D48-9F84-D8FE1C5E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8088-CBCF-434F-BAA8-1CA4B321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FFA0-8A5D-4ABF-970C-0E121D3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15FF-579B-41F7-B77E-CE9B6AA9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79FF-88BC-421D-95A5-9C99C497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C5C4-3721-4913-AB41-A7B618B3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2F22-E26B-46F4-B31D-04FE0D0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3B67-BD43-4EE8-A469-E9A94DA1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3E6F-218C-4EB1-8CF5-798BB2E9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396F-F745-464B-856D-71B1768D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8076-4745-4606-8CD6-FB3DF66C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F140-BABA-439B-A2B0-4F0BB18F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E0A6-1C07-4C27-8396-FD13F555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C856-71C2-4B3C-B2ED-0FE3FFFD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505D-CC2E-4E6C-A235-817ACFD4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CB64-FB4E-44FD-99B7-545D7764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B177-7B24-4FC6-8432-2C7ABCF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2838-A1BF-4011-B86F-93A4660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34F3-B723-4280-9F05-021415A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54A84-05D9-4695-B247-5D2E370A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1B1C4-0A97-4A32-BB34-DDE1BA3C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1964-6F5F-4107-9D2A-B34D06E6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C57F-9646-4054-BC13-5DEE0489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215E-BC41-456E-8505-CD235825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8E2B-4B1C-4393-8262-7F0B81E2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3E01-CB9D-46FA-A191-FD9852F6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F6F19-D644-4C90-B529-E6CA6C4B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E8423-21EC-4860-84B5-663A6AC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A2FE-6B79-4F00-B046-531BF8A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30DB-469A-44C8-873C-8B36DDF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F597-3A83-4E49-AEC4-543BD75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4CFF3-F901-4B4F-826B-FEA315A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3F63-7A65-4985-9EB7-98C31685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5B29-5B5E-49E9-AD31-04BC50BB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017BD-7B1B-4104-93AA-AB1B1996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9F25-D4B2-4558-A38E-EB4375AE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95B04-F844-4C48-A09B-C2CA4D43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5B20A-DF6D-43A0-A544-80F3CF41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FC0-87C7-41CA-B5E4-14D1FE2F88E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9C5-FF6E-4B51-8C59-1256142AFE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DDB0-E530-4FBC-89D2-0268190C5BC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0EA2-E71B-4317-B840-69631F62D1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093B-3A28-407E-9DF9-63B48E9FCC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1843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37" name="组合 18434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38" name="椭圆 18435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椭圆 18436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椭圆 18437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18438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18439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7BA4-B4CC-46CC-AF4C-75CCA4CD69D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19457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21" name="椭圆 19458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9459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19460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9461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9462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9463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5A72-388D-4677-B796-FA949931426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3F22-8C75-4B4B-8B6B-47A6152B4F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4484-8416-40B1-AC9E-7C4B06CC5D4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62F-1F60-43AE-B791-07AF6AD835D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72D-FA9E-44D2-B32D-27E101C033A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E23-4397-4F10-A47D-BA3CF5642DA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1"/>
          <p:cNvSpPr/>
          <p:nvPr/>
        </p:nvSpPr>
        <p:spPr>
          <a:xfrm>
            <a:off x="0" y="887400"/>
            <a:ext cx="9144000" cy="153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标题 1"/>
          <p:cNvSpPr/>
          <p:nvPr/>
        </p:nvSpPr>
        <p:spPr>
          <a:xfrm>
            <a:off x="1461960" y="1022400"/>
            <a:ext cx="617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口语交际：做手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49120" y="0"/>
            <a:ext cx="3637080" cy="3225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4889520" y="0"/>
            <a:ext cx="4165560" cy="35402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3"/>
          <a:stretch/>
        </p:blipFill>
        <p:spPr>
          <a:xfrm>
            <a:off x="3013200" y="2346480"/>
            <a:ext cx="303048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2"/>
          <p:cNvSpPr/>
          <p:nvPr/>
        </p:nvSpPr>
        <p:spPr>
          <a:xfrm>
            <a:off x="2509920" y="189000"/>
            <a:ext cx="39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做手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3"/>
          <p:cNvSpPr/>
          <p:nvPr/>
        </p:nvSpPr>
        <p:spPr>
          <a:xfrm>
            <a:off x="647640" y="812880"/>
            <a:ext cx="770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交际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班上展示自己的手工，说一说制作过程。评一评，谁手巧，谁说得清楚、明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3159000" y="2681280"/>
            <a:ext cx="303228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"/>
          <p:cNvSpPr/>
          <p:nvPr/>
        </p:nvSpPr>
        <p:spPr>
          <a:xfrm>
            <a:off x="720720" y="525600"/>
            <a:ext cx="78469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交际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前动手制作手工。如，用毛线编织蝴蝶结，用塑料瓶做成花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组交流、汇报制作过程。介绍制作方法时按照一定的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组推荐做得好、说得好的同学在班上展示、介绍自己的手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1"/>
          <p:cNvSpPr/>
          <p:nvPr/>
        </p:nvSpPr>
        <p:spPr>
          <a:xfrm>
            <a:off x="798480" y="274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交际示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"/>
          <p:cNvSpPr/>
          <p:nvPr/>
        </p:nvSpPr>
        <p:spPr>
          <a:xfrm>
            <a:off x="376200" y="858960"/>
            <a:ext cx="841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宋洋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做了一个飞机模型。首先，我用硬纸片卷成机身的形状，用胶水粘起来，然后用剪刀剪出机翼，贴在机身上并固定好，这样飞机模型就做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C:\Documents and Settings\Administrator\桌面\人二语状元大课堂\W46.tif"/>
          <p:cNvPicPr/>
          <p:nvPr/>
        </p:nvPicPr>
        <p:blipFill>
          <a:blip r:embed="rId1"/>
          <a:stretch/>
        </p:blipFill>
        <p:spPr>
          <a:xfrm>
            <a:off x="2886120" y="2438280"/>
            <a:ext cx="4086360" cy="23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"/>
          <p:cNvSpPr/>
          <p:nvPr/>
        </p:nvSpPr>
        <p:spPr>
          <a:xfrm>
            <a:off x="789120" y="2887560"/>
            <a:ext cx="775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李芳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做了一个布娃娃。我先用布裹住棉花做成娃娃的头和四肢，用线缝起来，最后用黑色毛线做她的长头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C:\Documents and Settings\Administrator\桌面\人二语状元大课堂\W47.tif"/>
          <p:cNvPicPr/>
          <p:nvPr/>
        </p:nvPicPr>
        <p:blipFill>
          <a:blip r:embed="rId1"/>
          <a:stretch/>
        </p:blipFill>
        <p:spPr>
          <a:xfrm>
            <a:off x="2457360" y="290520"/>
            <a:ext cx="441648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1"/>
          <p:cNvSpPr/>
          <p:nvPr/>
        </p:nvSpPr>
        <p:spPr>
          <a:xfrm>
            <a:off x="604800" y="639720"/>
            <a:ext cx="8097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严宾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做的是象棋。先把挂历纸裁成正方形，然后画上象棋格子做棋盘，再把写好不同棋子名称的纸片粘在准备好的瓶盖上，象棋就做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" descr="C:\Documents and Settings\Administrator\桌面\人二语状元大课堂\W48.tif"/>
          <p:cNvPicPr/>
          <p:nvPr/>
        </p:nvPicPr>
        <p:blipFill>
          <a:blip r:embed="rId1"/>
          <a:stretch/>
        </p:blipFill>
        <p:spPr>
          <a:xfrm>
            <a:off x="2717640" y="2411280"/>
            <a:ext cx="403236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1"/>
          <p:cNvSpPr/>
          <p:nvPr/>
        </p:nvSpPr>
        <p:spPr>
          <a:xfrm>
            <a:off x="163440" y="647640"/>
            <a:ext cx="853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刘雪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小制作是钱包。先把一张硬片纸对折起来，然后用双面胶分别把左右两边粘起来，最后在上方开口处粘上魔术贴。这样，一个简易钱包就做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C:\Documents and Settings\Administrator\桌面\人二语状元大课堂\W49.tif"/>
          <p:cNvPicPr/>
          <p:nvPr/>
        </p:nvPicPr>
        <p:blipFill>
          <a:blip r:embed="rId1"/>
          <a:stretch/>
        </p:blipFill>
        <p:spPr>
          <a:xfrm>
            <a:off x="2576520" y="2363760"/>
            <a:ext cx="4300560" cy="24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>声  明
 本文件仅用于个人学习、研究或欣赏，以及其他非商业性或非盈利性用途，但同时应遵守著作权法及其他相关法律的规定，不得侵犯本司及相关权利人的合法权利。
 除此以外，将本文件任何内容用于其他用途时，应获得授权，如发现未经授权用于商业或盈利用途将追加侵权者的法律责任。
武汉天成贵龙文化传播有限公司</dc:description>
  <cp:keywords>状元成才路</cp:keywords>
  <dc:language>en-US</dc:language>
  <cp:lastModifiedBy>万润仪器贸易公司</cp:lastModifiedBy>
  <dcterms:modified xsi:type="dcterms:W3CDTF">2020-08-19T01:36:00Z</dcterms:modified>
  <cp:revision>759</cp:revision>
  <dc:subject>状元成才路</dc:subject>
  <dc:title>状元成才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  <property fmtid="{D5CDD505-2E9C-101B-9397-08002B2CF9AE}" pid="3" name="内容">
    <vt:lpwstr>状元成才路</vt:lpwstr>
  </property>
</Properties>
</file>